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jpeg" ContentType="image/jpeg"/>
  <Override PartName="/ppt/media/image1.png" ContentType="image/png"/>
  <Override PartName="/ppt/media/image15.jpeg" ContentType="image/jpeg"/>
  <Override PartName="/ppt/media/image3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555B-B75E-4B79-9E09-8E31C35F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5669-F0B4-4C5F-8D63-1B8F59C4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A33B-5B19-4516-B528-74257F77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1F7D-F061-44DE-999C-6922F817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C1FE-FBC8-4A25-8252-616317E5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4737-B86C-4F24-BD44-228C4F53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9F5F-39CA-438B-BE74-1C095164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82E1-64CE-4E7E-9ECF-3CA2610A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94ED-AA47-4164-BD48-AB6562BD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158B-6AEA-4178-9877-32E70CB8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37B3-7168-47C4-BCE4-5F0F5062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3987-076A-40B9-A5E8-789DDD87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273E-1678-4818-9DB3-F7AD5EE2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1322-6DB5-48F5-A534-5ABEC3D7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AFCA-A7A6-4737-B581-17580FE3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BA09-B930-4C7B-B448-B20AA137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933F-63CF-4C5B-BD7F-DF8A277D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06272-B740-47F0-9F0A-7F4FF99F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81844-8E49-4B6A-8E71-4398642B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C1A01-CCB8-4BDC-8C6F-04C99B75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FE418-1AF7-4762-A256-44BE811E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5C920-2A92-4CD1-A9EC-3721B52F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CDF-FEF9-436A-ABD9-BC652ABC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CAA7A-7F73-4F8A-A91B-E2EB9BCB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B2CFF-C5EE-414D-B98D-F3673FD6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08085-66CC-4D8F-A95C-9E25A5FA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8E831-FC3C-42FD-A1A6-498BC6EB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0517A-4E3F-4BA8-B9FC-06051B05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19AE4-3324-453D-B7BD-AE51BB82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1A1B7-4894-450E-B651-8E5ACF5D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D2107-A256-4396-95D8-FBB7EC7F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5085E-8B83-4A2A-A7FF-BA5E7726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E49B4-B98E-44AA-AE10-77145B36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B1D3-835A-4539-AFBE-7D3676FF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4B043-23C7-4B1C-8E38-0F29AC05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C39D9-4D81-4C57-8C04-F467C99C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05CF7-2D24-41F0-8628-EF0E8346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E897B-6CAB-4A65-856B-530F5199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379AF-6CCF-4B82-B2A6-31E461F3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40728-8293-4404-9B24-7DF5916E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88213-296E-44B7-96CE-72C802E7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71A87-23EE-4FE8-BC07-076C9FC2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63FCD-AE50-4BB1-B764-8D238728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6F3E4-C9F7-46B9-8F1F-495BB986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96C6-7C25-4672-997A-0A3B746C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49B70-E6F7-4D69-9C6F-556B2C46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E1BE2-44AC-4134-BFD3-F6006CD0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202FF-5E0D-4F97-93AE-67CAF4D2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C86AF-07D0-4737-9B28-9F1C536A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C627B-62DF-4651-BF0D-BC0EC2BE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2333B-B05C-47D1-B89D-EA4A81DE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C0216-5A5F-4A69-9E01-95071EFC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96888-9F5C-458C-8F18-684613EB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49501-AE6B-4716-8A45-F5FF89F1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2A303-FCA0-4EAB-B421-163E5A38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48ED-9F74-4D78-AC3A-06A7D7CA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ACC7C-4AB4-45A6-B1CF-400202F8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B293C-70BE-4289-B430-AFBD2D18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06212-297D-4D8E-9BD8-1403D1AC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12659-D2C7-4CC2-9E53-908DEAF8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54173-874F-40E2-9F37-6A82387F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4E29F-DF5F-41A2-A6D3-BB94829D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D8EEA-E23D-4105-B4BE-A5630C9C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D2886-FB10-4C62-8763-E5B10346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A66A0-AB64-4915-8591-DDFEE47E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B2EF8-A153-4528-8F22-313352F0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FB09-942B-4452-A073-DF60B12D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D3711-10C8-4FC6-A138-CE86A35F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6C79E-6A67-4FC9-899E-2B8D2A2E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2782C-05EB-4CF0-97EB-D35BEEE3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5654-4484-4E66-9EE8-58B0BF84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A01D-FDDB-49B1-A219-EFD2125D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7 - Στρογγυλεμένο ορθογώνιο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4921-8BDC-4168-AB96-9DE73FF573C2}" type="slidenum">
              <a:rPr b="0" lang="el-G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9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10 - Στρογγυλεμένο ορθογώνιο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11 - Ορθογώνιο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12 - Ορθογώνιο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14 - Ορθογώνιο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7CF9-AA64-49F2-825E-3B1BC84D5DEC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9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" name="10 - Στρογγυλεμένο ορθογώνιο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10 - Στρογγυλεμένο ορθογώνιο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11 - Ορθογώνιο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12 - Ορθογώνιο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14 - Ορθογώνιο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1262-0779-4BE9-BA38-463980C89988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8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7 - Στρογγυλεμένο ορθογώνιο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9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10 - Στρογγυλεμένο ορθογώνιο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0DF9-4CC8-44D4-9407-0411C10870AF}" type="slidenum">
              <a:rPr b="0" lang="el-G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8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7 - Στρογγυλεμένο ορθογώνιο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9 - Ορθογώνιο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10 - Ορθογώνιο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11 - Ορθογώνιο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A5D7-FA38-4BC4-BADF-3F2BAED3B340}" type="slidenum">
              <a:rPr b="0" lang="el-G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8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7 - Στρογγυλεμένο ορθογώνιο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5480"/>
            <a:ext cx="150876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25A4-2E46-432C-B479-3D7EB9A0450B}" type="slidenum">
              <a:rPr b="0" lang="el-G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1785960"/>
            <a:ext cx="8501040" cy="9698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2329"/>
                </a:solidFill>
                <a:latin typeface="Cambria"/>
              </a:rPr>
              <a:t>GRAFFITI, </a:t>
            </a:r>
            <a:r>
              <a:rPr b="0" lang="el-GR" sz="4000" spc="-1" strike="noStrike">
                <a:solidFill>
                  <a:srgbClr val="062329"/>
                </a:solidFill>
                <a:latin typeface="Cambria"/>
              </a:rPr>
              <a:t>Η ΤΕΧΝΗ ΤΟΥ ΔΡΟΜΟΥ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Φύλο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pic>
        <p:nvPicPr>
          <p:cNvPr id="291" name="Chart 1" descr=""/>
          <p:cNvPicPr/>
          <p:nvPr/>
        </p:nvPicPr>
        <p:blipFill>
          <a:blip r:embed="rId1"/>
          <a:stretch/>
        </p:blipFill>
        <p:spPr>
          <a:xfrm>
            <a:off x="1066680" y="1352520"/>
            <a:ext cx="7785360" cy="458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62329"/>
                </a:solidFill>
                <a:latin typeface="Calibri"/>
              </a:rPr>
              <a:t>Έχετε δει </a:t>
            </a:r>
            <a:r>
              <a:rPr b="0" lang="en-US" sz="2800" spc="-1" strike="noStrike">
                <a:solidFill>
                  <a:srgbClr val="062329"/>
                </a:solidFill>
                <a:latin typeface="Calibri"/>
              </a:rPr>
              <a:t>graffiti </a:t>
            </a:r>
            <a:r>
              <a:rPr b="0" lang="el-GR" sz="2800" spc="-1" strike="noStrike">
                <a:solidFill>
                  <a:srgbClr val="062329"/>
                </a:solidFill>
                <a:latin typeface="Calibri"/>
              </a:rPr>
              <a:t>στην πόλη μας;</a:t>
            </a:r>
            <a:endParaRPr b="0" lang="en-US" sz="2800" spc="-1" strike="noStrike">
              <a:solidFill>
                <a:srgbClr val="464646"/>
              </a:solidFill>
              <a:latin typeface="Calibri"/>
            </a:endParaRPr>
          </a:p>
        </p:txBody>
      </p:sp>
      <p:pic>
        <p:nvPicPr>
          <p:cNvPr id="293" name="Picture 8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91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1" descr=""/>
          <p:cNvPicPr/>
          <p:nvPr/>
        </p:nvPicPr>
        <p:blipFill>
          <a:blip r:embed="rId2"/>
          <a:stretch/>
        </p:blipFill>
        <p:spPr>
          <a:xfrm>
            <a:off x="836640" y="3938760"/>
            <a:ext cx="3281400" cy="2192040"/>
          </a:xfrm>
          <a:prstGeom prst="rect">
            <a:avLst/>
          </a:prstGeom>
          <a:ln w="0">
            <a:noFill/>
          </a:ln>
        </p:spPr>
      </p:pic>
      <p:pic>
        <p:nvPicPr>
          <p:cNvPr id="295" name="Chart 6" descr=""/>
          <p:cNvPicPr/>
          <p:nvPr/>
        </p:nvPicPr>
        <p:blipFill>
          <a:blip r:embed="rId3"/>
          <a:stretch/>
        </p:blipFill>
        <p:spPr>
          <a:xfrm>
            <a:off x="-1006560" y="-219240"/>
            <a:ext cx="10163160" cy="708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62329"/>
                </a:solidFill>
                <a:latin typeface="Cambria"/>
              </a:rPr>
              <a:t>Μορφωτικό επίπεδο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297" name="Object 3"/>
          <p:cNvGraphicFramePr/>
          <p:nvPr/>
        </p:nvGraphicFramePr>
        <p:xfrm>
          <a:off x="1434960" y="1569960"/>
          <a:ext cx="6764400" cy="430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4960" y="1569960"/>
                    <a:ext cx="6764400" cy="43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mbria"/>
              </a:rPr>
              <a:t>Ηλικιακή ομάδα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857160" y="1785960"/>
          <a:ext cx="7410600" cy="358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785960"/>
                    <a:ext cx="741060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5716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mbria"/>
              </a:rPr>
              <a:t>Γνωρίζετε τι είναι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graffiti</a:t>
            </a:r>
            <a:r>
              <a:rPr b="0" lang="el-GR" sz="36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03" name="Object 7"/>
          <p:cNvGraphicFramePr/>
          <p:nvPr/>
        </p:nvGraphicFramePr>
        <p:xfrm>
          <a:off x="857160" y="1428840"/>
          <a:ext cx="7483680" cy="388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428840"/>
                    <a:ext cx="748368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mbria"/>
              </a:rPr>
              <a:t>Ομορφαίνει το αστικό τοπίο;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06" name="Object 3"/>
          <p:cNvGraphicFramePr/>
          <p:nvPr/>
        </p:nvGraphicFramePr>
        <p:xfrm>
          <a:off x="584280" y="1197000"/>
          <a:ext cx="7916760" cy="499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1197000"/>
                    <a:ext cx="791676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5716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mbria"/>
              </a:rPr>
              <a:t>Είναι μορφή έκφρασης συναισθημάτων των δημιουργών;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09" name="Object 3"/>
          <p:cNvGraphicFramePr/>
          <p:nvPr/>
        </p:nvGraphicFramePr>
        <p:xfrm>
          <a:off x="773280" y="1857240"/>
          <a:ext cx="7616520" cy="40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1857240"/>
                    <a:ext cx="761652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mbria"/>
              </a:rPr>
              <a:t>Θα επιθυμούσα να είχα ένα σε έναν άδειο τοίχο του σπιτιού μου;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12" name="Object 3"/>
          <p:cNvGraphicFramePr/>
          <p:nvPr/>
        </p:nvGraphicFramePr>
        <p:xfrm>
          <a:off x="933480" y="1849320"/>
          <a:ext cx="7880400" cy="43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1849320"/>
                    <a:ext cx="788040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mbria"/>
              </a:rPr>
              <a:t>Οι δημιουργοί του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graffiti </a:t>
            </a:r>
            <a:r>
              <a:rPr b="0" lang="el-GR" sz="3600" spc="-1" strike="noStrike">
                <a:solidFill>
                  <a:srgbClr val="000000"/>
                </a:solidFill>
                <a:latin typeface="Cambria"/>
              </a:rPr>
              <a:t>ακολουθούν κανόνες δεοντολογίας;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15" name="Object 3"/>
          <p:cNvGraphicFramePr/>
          <p:nvPr/>
        </p:nvGraphicFramePr>
        <p:xfrm>
          <a:off x="1114560" y="1957320"/>
          <a:ext cx="7372080" cy="35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957320"/>
                    <a:ext cx="737208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mbria"/>
              </a:rPr>
              <a:t>Είναι βανδαλισμός;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18" name="Object 3"/>
          <p:cNvGraphicFramePr/>
          <p:nvPr/>
        </p:nvGraphicFramePr>
        <p:xfrm>
          <a:off x="716040" y="1357200"/>
          <a:ext cx="7824600" cy="49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1357200"/>
                    <a:ext cx="782460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2640" y="928440"/>
            <a:ext cx="7072200" cy="734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62329"/>
                </a:solidFill>
                <a:latin typeface="Cambria"/>
              </a:rPr>
              <a:t>Η εξελικτική πορεία της εργασίας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56800" y="2428560"/>
            <a:ext cx="790092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Ανάλυση θέματος σε επιμέρους παραρτήματα.</a:t>
            </a:r>
            <a:r>
              <a:rPr b="0" lang="el-GR" sz="2000" spc="-1" strike="noStrike">
                <a:solidFill>
                  <a:srgbClr val="062329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Διαχωρισμός των μαθητών σε 4 ομάδες και επιλογή θέματος για κάθε ομάδα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Αναζήτηση και αξιολόγηση αξιόπιστων και μη πηγών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Συγκέντρωση πληροφοριών, επεξεργασία και καταγραφή τους σε κείμενο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mbria"/>
              </a:rPr>
              <a:t>Πρέπει να νομιμοποιηθεί;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21" name="Object 3"/>
          <p:cNvGraphicFramePr/>
          <p:nvPr/>
        </p:nvGraphicFramePr>
        <p:xfrm>
          <a:off x="1249200" y="1447920"/>
          <a:ext cx="71010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447920"/>
                    <a:ext cx="7101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Το </a:t>
            </a:r>
            <a:r>
              <a:rPr b="0" lang="en-US" sz="3600" spc="-1" strike="noStrike">
                <a:solidFill>
                  <a:srgbClr val="464646"/>
                </a:solidFill>
                <a:latin typeface="Cambria"/>
              </a:rPr>
              <a:t>site </a:t>
            </a: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των αναρτήσεων μας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pic>
        <p:nvPicPr>
          <p:cNvPr id="324" name="3 - Θέση περιεχομένου" descr="to_wiki_mas.JPG"/>
          <p:cNvPicPr/>
          <p:nvPr/>
        </p:nvPicPr>
        <p:blipFill>
          <a:blip r:embed="rId1"/>
          <a:stretch/>
        </p:blipFill>
        <p:spPr>
          <a:xfrm>
            <a:off x="912960" y="1571760"/>
            <a:ext cx="7016760" cy="421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Το </a:t>
            </a:r>
            <a:r>
              <a:rPr b="0" lang="en-US" sz="3600" spc="-1" strike="noStrike">
                <a:solidFill>
                  <a:srgbClr val="464646"/>
                </a:solidFill>
                <a:latin typeface="Cambria"/>
              </a:rPr>
              <a:t>graffiti </a:t>
            </a: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στο 4</a:t>
            </a:r>
            <a:r>
              <a:rPr b="0" lang="el-GR" sz="3600" spc="-1" strike="noStrike" baseline="30000">
                <a:solidFill>
                  <a:srgbClr val="464646"/>
                </a:solidFill>
                <a:latin typeface="Cambria"/>
              </a:rPr>
              <a:t>ο</a:t>
            </a: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 γυμνάσιο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pic>
        <p:nvPicPr>
          <p:cNvPr id="326" name="3 - Θέση περιεχομένου" descr="graffiti-mask.jpg"/>
          <p:cNvPicPr/>
          <p:nvPr/>
        </p:nvPicPr>
        <p:blipFill>
          <a:blip r:embed="rId1"/>
          <a:stretch/>
        </p:blipFill>
        <p:spPr>
          <a:xfrm>
            <a:off x="1000080" y="1447920"/>
            <a:ext cx="70722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62329"/>
                </a:solidFill>
                <a:latin typeface="Cambria"/>
              </a:rPr>
              <a:t>Κατανομή των ομάδων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56760" y="928800"/>
            <a:ext cx="8358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62329"/>
                </a:solidFill>
                <a:latin typeface="Cambria"/>
              </a:rPr>
              <a:t>Ομάδα 1</a:t>
            </a:r>
            <a:r>
              <a:rPr b="1" lang="el-GR" sz="2000" spc="-1" strike="noStrike" baseline="30000">
                <a:solidFill>
                  <a:srgbClr val="062329"/>
                </a:solidFill>
                <a:latin typeface="Cambria"/>
              </a:rPr>
              <a:t>η</a:t>
            </a:r>
            <a:r>
              <a:rPr b="1" lang="el-GR" sz="2000" spc="-1" strike="noStrike">
                <a:solidFill>
                  <a:srgbClr val="062329"/>
                </a:solidFill>
                <a:latin typeface="Cambria"/>
              </a:rPr>
              <a:t>: Ιστορία του </a:t>
            </a:r>
            <a:r>
              <a:rPr b="1" lang="en-US" sz="2000" spc="-1" strike="noStrike">
                <a:solidFill>
                  <a:srgbClr val="062329"/>
                </a:solidFill>
                <a:latin typeface="Cambria"/>
              </a:rPr>
              <a:t>graffiti-</a:t>
            </a:r>
            <a:r>
              <a:rPr b="1" lang="el-GR" sz="2000" spc="-1" strike="noStrike">
                <a:solidFill>
                  <a:srgbClr val="062329"/>
                </a:solidFill>
                <a:latin typeface="Cambria"/>
              </a:rPr>
              <a:t>Προέλευση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Βαγενάς Δημήτρης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Καριοφύλη Χαρά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Λούκας Φίλιππος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Νότσικα Χρύσα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Σιαμαλέκα Ευτυχία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62329"/>
                </a:solidFill>
                <a:latin typeface="Cambria"/>
              </a:rPr>
              <a:t>Ομάδα 2</a:t>
            </a:r>
            <a:r>
              <a:rPr b="1" lang="el-GR" sz="2000" spc="-1" strike="noStrike" baseline="30000">
                <a:solidFill>
                  <a:srgbClr val="062329"/>
                </a:solidFill>
                <a:latin typeface="Cambria"/>
              </a:rPr>
              <a:t>η</a:t>
            </a:r>
            <a:r>
              <a:rPr b="1" lang="el-GR" sz="2000" spc="-1" strike="noStrike">
                <a:solidFill>
                  <a:srgbClr val="062329"/>
                </a:solidFill>
                <a:latin typeface="Cambria"/>
              </a:rPr>
              <a:t>: Καλλιτέχνες του </a:t>
            </a:r>
            <a:r>
              <a:rPr b="1" lang="en-US" sz="2000" spc="-1" strike="noStrike">
                <a:solidFill>
                  <a:srgbClr val="062329"/>
                </a:solidFill>
                <a:latin typeface="Cambria"/>
              </a:rPr>
              <a:t>graffiti-</a:t>
            </a:r>
            <a:r>
              <a:rPr b="1" lang="el-GR" sz="2000" spc="-1" strike="noStrike">
                <a:solidFill>
                  <a:srgbClr val="062329"/>
                </a:solidFill>
                <a:latin typeface="Cambria"/>
              </a:rPr>
              <a:t>Τέχνη ή Βανδαλισμός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Δεμιρτζόγλου Ιωάννα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Καρβέλης Νίκος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Κασσελούρη Ιωάννα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Κοσκινάς Κώστας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Μπάλλας Δημήτρης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62329"/>
                </a:solidFill>
                <a:latin typeface="Cambria"/>
              </a:rPr>
              <a:t>Ομάδα 3</a:t>
            </a:r>
            <a:r>
              <a:rPr b="1" lang="el-GR" sz="2000" spc="-1" strike="noStrike" baseline="30000">
                <a:solidFill>
                  <a:srgbClr val="062329"/>
                </a:solidFill>
                <a:latin typeface="Cambria"/>
              </a:rPr>
              <a:t>η</a:t>
            </a:r>
            <a:r>
              <a:rPr b="1" lang="el-GR" sz="2000" spc="-1" strike="noStrike">
                <a:solidFill>
                  <a:srgbClr val="062329"/>
                </a:solidFill>
                <a:latin typeface="Cambria"/>
              </a:rPr>
              <a:t>: Οικονομία &amp; </a:t>
            </a:r>
            <a:r>
              <a:rPr b="1" lang="en-US" sz="2000" spc="-1" strike="noStrike">
                <a:solidFill>
                  <a:srgbClr val="062329"/>
                </a:solidFill>
                <a:latin typeface="Cambria"/>
              </a:rPr>
              <a:t>graffiti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Βασδέκη Γεωργία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Σήτα Βασιλική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Συμεωνίδης Άγγελος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62329"/>
                </a:solidFill>
                <a:latin typeface="Cambria"/>
              </a:rPr>
              <a:t>Ομάδα 4</a:t>
            </a:r>
            <a:r>
              <a:rPr b="1" lang="el-GR" sz="2000" spc="-1" strike="noStrike" baseline="30000">
                <a:solidFill>
                  <a:srgbClr val="062329"/>
                </a:solidFill>
                <a:latin typeface="Cambria"/>
              </a:rPr>
              <a:t>η</a:t>
            </a:r>
            <a:r>
              <a:rPr b="1" lang="el-GR" sz="2000" spc="-1" strike="noStrike">
                <a:solidFill>
                  <a:srgbClr val="062329"/>
                </a:solidFill>
                <a:latin typeface="Cambria"/>
              </a:rPr>
              <a:t>: Θεματολογία-Είδη-4 στοιχεία-Νομιμότητα-Νομοθεσία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Μέρμηγκα Φωτεινή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Μπότσολος Χρήστος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Πάνου Χρύσα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Παπαδημητρίου Κώστας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Πρίντζης Παναγιώτης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Ιστορία του </a:t>
            </a:r>
            <a:r>
              <a:rPr b="0" lang="en-US" sz="3600" spc="-1" strike="noStrike">
                <a:solidFill>
                  <a:srgbClr val="464646"/>
                </a:solidFill>
                <a:latin typeface="Cambria"/>
              </a:rPr>
              <a:t>graffiti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4 στοιχεια(χιπ-χοπ)</a:t>
            </a: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reak Dance(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χορός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RAP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Djing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raffiti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4165920" y="3245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Νομοθεσία - νομιμότητα - ''τέχνη ή βανδαλισμός;''</a:t>
            </a: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α graffiti μπορεί να είναι είτε νόμιμα είτε παράνομα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Η επιλογή βρίσκεται καθαρά στα χέρια του καλλιτέχνη.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Το </a:t>
            </a:r>
            <a:r>
              <a:rPr b="0" lang="en-US" sz="3600" spc="-1" strike="noStrike">
                <a:solidFill>
                  <a:srgbClr val="464646"/>
                </a:solidFill>
                <a:latin typeface="Cambria"/>
              </a:rPr>
              <a:t>graffiti</a:t>
            </a: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 στην Ελλάδα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E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μφανίστηκε γύρω στο 1986 αρχικά με πολύχρωμα σχέδια και μηνύματα πάνω στα βαγόνια του ηλεκτρικού και των τρένων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Δεν αποτελεί έκφραση του περιθωρίου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Ακριβά σπρέϋ            ακριβό χόμπ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5 - Ραβδωτό δεξιό βέλος"/>
          <p:cNvSpPr/>
          <p:nvPr/>
        </p:nvSpPr>
        <p:spPr>
          <a:xfrm>
            <a:off x="3214800" y="4143240"/>
            <a:ext cx="571320" cy="198720"/>
          </a:xfrm>
          <a:custGeom>
            <a:avLst/>
            <a:gdLst>
              <a:gd name="textAreaLeft" fmla="*/ 30960 w 571320"/>
              <a:gd name="textAreaRight" fmla="*/ 522000 w 571320"/>
              <a:gd name="textAreaTop" fmla="*/ 49680 h 198720"/>
              <a:gd name="textAreaBottom" fmla="*/ 149040 h 198720"/>
            </a:gdLst>
            <a:ahLst/>
            <a:rect l="textAreaLeft" t="textAreaTop" r="textAreaRight" b="textAreaBottom"/>
            <a:pathLst>
              <a:path w="571500" h="198437">
                <a:moveTo>
                  <a:pt x="0" y="49609"/>
                </a:moveTo>
                <a:lnTo>
                  <a:pt x="6201" y="49609"/>
                </a:lnTo>
                <a:lnTo>
                  <a:pt x="6201" y="148828"/>
                </a:lnTo>
                <a:lnTo>
                  <a:pt x="0" y="148828"/>
                </a:lnTo>
                <a:close/>
                <a:moveTo>
                  <a:pt x="12402" y="49609"/>
                </a:moveTo>
                <a:lnTo>
                  <a:pt x="24805" y="49609"/>
                </a:lnTo>
                <a:lnTo>
                  <a:pt x="24805" y="148828"/>
                </a:lnTo>
                <a:lnTo>
                  <a:pt x="12402" y="148828"/>
                </a:lnTo>
                <a:close/>
                <a:moveTo>
                  <a:pt x="31006" y="49609"/>
                </a:moveTo>
                <a:lnTo>
                  <a:pt x="472282" y="49609"/>
                </a:lnTo>
                <a:lnTo>
                  <a:pt x="472282" y="0"/>
                </a:lnTo>
                <a:lnTo>
                  <a:pt x="571500" y="99219"/>
                </a:lnTo>
                <a:lnTo>
                  <a:pt x="472282" y="198437"/>
                </a:lnTo>
                <a:lnTo>
                  <a:pt x="472282" y="148828"/>
                </a:lnTo>
                <a:lnTo>
                  <a:pt x="31006" y="148828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0040" y="24156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l-GR" sz="3600" spc="-1" strike="noStrike" u="sng">
              <a:solidFill>
                <a:srgbClr val="3333ff"/>
              </a:solidFill>
              <a:uFillTx/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7176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Συγκέντρωση φωτογραφικού υλικού από τοπικές δημιουργίες καλλιτεχνών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Λήψη συνέντευξης από καλλιτέχνη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Σύνταξη ερωτηματολογίων και συμπλήρωση τους από πολίτες διαφόρων ηλικιών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l-GR" sz="4000" spc="-1" strike="noStrike" u="sng">
              <a:solidFill>
                <a:srgbClr val="3333ff"/>
              </a:solidFill>
              <a:uFillTx/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Καταγραφή αποτελεσμάτων των ερωτηματολογίων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Δημιουργία </a:t>
            </a:r>
            <a:r>
              <a:rPr b="0" lang="en-US" sz="2400" spc="-1" strike="noStrike">
                <a:solidFill>
                  <a:srgbClr val="062329"/>
                </a:solidFill>
                <a:latin typeface="Cambria"/>
              </a:rPr>
              <a:t>graffiti </a:t>
            </a: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και βιντεοσκόπηση της διαδικασία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Συγκέντρωση στατιστικών από τα ερωτηματολόγια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1:07:22Z</dcterms:created>
  <dc:creator>user03</dc:creator>
  <dc:description/>
  <dc:language>en-US</dc:language>
  <cp:lastModifiedBy>intra</cp:lastModifiedBy>
  <dcterms:modified xsi:type="dcterms:W3CDTF">2013-01-21T20:40:13Z</dcterms:modified>
  <cp:revision>27</cp:revision>
  <dc:subject/>
  <dc:title>52</dc:title>
</cp:coreProperties>
</file>